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8DEA7-B483-4736-9170-C46C0633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94AC2-4135-4D69-A283-46B79235B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43FCC-B9FF-41C0-B044-091B86A2B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19E07-81C7-4A41-87BF-263B2AF35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0C350-5CEB-41B0-9261-7EAB6A8959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423F9-1E06-4041-BA5E-195CD96A83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F9084-D6A3-4EEA-926D-46F472B4A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224D8-5E5C-4FFF-969C-863E21C79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C96ED-90F5-490A-8609-D8C2E842D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D7EFE-8B51-445A-AE28-C5041DB88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C19FA-53BA-4BA8-ABF7-D9BB499E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FE261-9D7E-4529-8F16-FB3153C6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E54C-49FC-4D54-9472-954C3CFFC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D77EF-5CB9-4B84-878F-F31D68D36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D971F-376C-4AB2-BB1A-9250B0DD6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BEA17-A771-49A5-8ECE-82F6C663B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6D236-D311-4EC3-AB88-594321D53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2FF9A0-FF6E-410D-BC02-B07157FE4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91842-61B4-4C8E-B45F-3AE9BA442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45F6E-3EE3-4184-9CD6-4B1F1EEB5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767E6-9B76-401B-AFFE-79EEFC541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972AC-3E2F-4980-99EB-292B002510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8D5B-DB98-4D43-93E7-B72D30100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26B927-3BC1-4223-8276-C1F7A8309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E19A1-6185-4826-B005-3A839B5B3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04CA0-E09E-44BF-9611-B5CE438FA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D6FAF-74FF-4CEF-AE39-BEFC6A90B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CEBF05-A27E-43BB-89E2-FA5149613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82EA05-66BE-4BAD-88F9-23DCB0E16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54D317-CA8E-45F6-A853-B8E48506C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4608B7-E334-47A6-A771-CD52DCC05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1A22D-1A27-486B-9391-F8781D95A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626F2-8A56-4A12-B3E2-FFB2C2ED9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3D19-B569-43E9-ACAE-4A3F46A01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F05D97-5C0F-45A3-ACB0-E42B3BD8B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302DA-2B7F-4F9A-9B59-DDACD2FCB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1C89B-967E-4F7B-91EC-B1C6DB883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ED873-7673-4B64-8D6A-AE7502DC2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FC71AD-F552-4512-91E6-51A3FE5C9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EC467-81C2-4201-BC53-9C0DFAFD4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AA417-5350-410C-86EA-E4AE2EF851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41DEF-6448-49EF-A17A-3B12E9AA5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D61F83-A649-4115-B292-359017302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7A684C-EB90-4500-B752-3FC718E9A6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7F2B-F171-4BC6-AD17-DB68ED289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CB48F7-3C60-4AD2-8BFE-90F2F0F61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5FCA99-1500-4386-BA77-6B7E19ECC4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C145C4-A631-43BD-8E8F-E8FE818B7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EC09B5-5B5E-42BE-8012-DDC004380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0BC85-F741-4495-8384-A446618C4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93C85-A4FE-4AE6-B33E-F5654EEA33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25EE2-8D0F-4C8C-810B-032965FC35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C16CA-4D75-4B65-89DD-FF23E7ABDE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C5218E-7792-416C-99DA-3838B79C7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AD9FB-3E55-4B1D-B580-C2AD79114B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D7316-54C9-47E0-A79F-9A1D7A53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1743F-8BAD-4293-9B23-AED275485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967A05-25CA-4DFC-9B8B-1B36C26B74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9EE96E-28FD-44A9-ABCC-F22F4C321C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633CF-A1A4-4E28-9DAE-8B8BEF522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16CD9F-715F-4902-9E81-5C64DB007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9AEBA-74AA-4AEE-9E05-9AAC9A7DF5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16A2B9-887D-47ED-A7B9-DC80D8FF30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B9C496-A662-443A-A5D8-56E86F857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BCB47-3026-439D-9921-84524793E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998E9-5B6F-4EBC-B746-D49D51A56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6EFC-C0F0-4793-A289-BCEFC5604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88CE0-8F9D-4887-A717-7FFAB9600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1AAA8F-725C-430D-8697-ABC67DDEC7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D16B68-6F47-487F-B970-1AD72C3C82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A2D00C-718F-4CD5-AD61-F217BC6BE8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8F445-CFB7-4F2B-A644-F108581A93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B4D86-F2D7-4F9B-A08F-3165C4A9C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062C25-4BDC-4E6E-A05B-21F1322283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0EFF2-17DC-4EE0-A14C-83800A0E7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DBCAAD-9ABB-4201-AAD9-FE12601865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9C64D7-C104-4B1F-9105-04C86F388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3CA69-F356-41BA-9BF4-0B86EAFBE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AEC70-DDAD-4D5F-9C33-E40CE7160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594CB8-9772-4079-9935-D40665F22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B525A-0416-4651-BFEF-F91D4BD1D1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756663-95E7-42EE-BBB7-7A1D492D14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607B93-4E0B-4B4F-89FD-0D40CEF2D4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923C76-21B6-44A8-A46E-B81D86D806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F30BF5-ECC6-463F-8A4A-7EF1DB0421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73CA5-FEFB-456C-A8DA-FDFE1EF03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71C81B-81A3-4B75-9930-F398A6CF4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25AAC8-3008-4224-B1AF-2952D6320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6074-BE31-4335-B94C-DB9A3AFE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E7886E-0439-4611-AD22-8928E30A28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438C3-213F-4E04-B22C-6C198166A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89E1A-2E34-47EE-A58E-08C67B36F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21F5C-96AE-4C3D-9EBC-6E9A5D93E9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98A03-F00B-4C1F-83C8-18A0BF31C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3CC1EC-901D-4752-A4A5-552F886EEB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7357F2-5087-43DA-AE6A-F3622AC46CF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Triunghi drept 13"/>
          <p:cNvGrpSpPr/>
          <p:nvPr/>
        </p:nvGrpSpPr>
        <p:grpSpPr>
          <a:xfrm>
            <a:off x="-12600" y="5784840"/>
            <a:ext cx="3414600" cy="1092240"/>
            <a:chOff x="-12600" y="5784840"/>
            <a:chExt cx="3414600" cy="1092240"/>
          </a:xfrm>
        </p:grpSpPr>
        <p:pic>
          <p:nvPicPr>
            <p:cNvPr id="3" name="Triunghi drept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Conector drept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FDD2-4131-48E7-A1B1-D90355E6F1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upare 15"/>
          <p:cNvGrpSpPr/>
          <p:nvPr/>
        </p:nvGrpSpPr>
        <p:grpSpPr>
          <a:xfrm>
            <a:off x="-3240" y="4952880"/>
            <a:ext cx="9147240" cy="1911600"/>
            <a:chOff x="-3240" y="4952880"/>
            <a:chExt cx="9147240" cy="1911600"/>
          </a:xfrm>
        </p:grpSpPr>
        <p:sp>
          <p:nvSpPr>
            <p:cNvPr id="49" name="Formă liberă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ormă liberă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ormă liberă 19"/>
            <p:cNvGrpSpPr/>
            <p:nvPr/>
          </p:nvGrpSpPr>
          <p:grpSpPr>
            <a:xfrm>
              <a:off x="2520" y="4992120"/>
              <a:ext cx="9141480" cy="1872360"/>
              <a:chOff x="2520" y="4992120"/>
              <a:chExt cx="9141480" cy="1872360"/>
            </a:xfrm>
          </p:grpSpPr>
          <p:pic>
            <p:nvPicPr>
              <p:cNvPr id="52" name="Formă liberă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Conector drept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484F-E996-4C2F-A319-77AE9DC9465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Triunghi drept 13"/>
          <p:cNvGrpSpPr/>
          <p:nvPr/>
        </p:nvGrpSpPr>
        <p:grpSpPr>
          <a:xfrm>
            <a:off x="-12600" y="5784840"/>
            <a:ext cx="3414600" cy="1092240"/>
            <a:chOff x="-12600" y="5784840"/>
            <a:chExt cx="3414600" cy="1092240"/>
          </a:xfrm>
        </p:grpSpPr>
        <p:pic>
          <p:nvPicPr>
            <p:cNvPr id="99" name="Triunghi drept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Conector drept 14" descr=""/>
          <p:cNvPicPr/>
          <p:nvPr/>
        </p:nvPicPr>
        <p:blipFill>
          <a:blip r:embed="rId4"/>
          <a:stretch/>
        </p:blipFill>
        <p:spPr>
          <a:xfrm>
            <a:off x="-19080" y="5772240"/>
            <a:ext cx="3421080" cy="1109520"/>
          </a:xfrm>
          <a:prstGeom prst="rect">
            <a:avLst/>
          </a:prstGeom>
          <a:ln w="0">
            <a:noFill/>
          </a:ln>
        </p:spPr>
      </p:pic>
      <p:sp>
        <p:nvSpPr>
          <p:cNvPr id="102"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3BE5-9F31-4A52-8190-498A8CB1EA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Triunghi drept 13"/>
          <p:cNvGrpSpPr/>
          <p:nvPr/>
        </p:nvGrpSpPr>
        <p:grpSpPr>
          <a:xfrm>
            <a:off x="-12600" y="5784840"/>
            <a:ext cx="3414600" cy="1092240"/>
            <a:chOff x="-12600" y="5784840"/>
            <a:chExt cx="3414600" cy="1092240"/>
          </a:xfrm>
        </p:grpSpPr>
        <p:pic>
          <p:nvPicPr>
            <p:cNvPr id="148" name="Triunghi drept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Conector drept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780E-FB33-4A7C-AD5B-9ADCD11B10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43C4-C70F-4697-BFFC-B6D21ACAB5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Triunghi drept 13"/>
          <p:cNvGrpSpPr/>
          <p:nvPr/>
        </p:nvGrpSpPr>
        <p:grpSpPr>
          <a:xfrm>
            <a:off x="-12600" y="5784840"/>
            <a:ext cx="3414600" cy="1092240"/>
            <a:chOff x="-12600" y="5784840"/>
            <a:chExt cx="3414600" cy="1092240"/>
          </a:xfrm>
        </p:grpSpPr>
        <p:pic>
          <p:nvPicPr>
            <p:cNvPr id="236" name="Triunghi drept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Conector drept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ED62-8AE5-40CF-99FF-A37590EC97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0B9F-E139-4F0A-921E-226E9F6F8BD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ă liberă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ormă liberă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Triunghi drept 16"/>
          <p:cNvGrpSpPr/>
          <p:nvPr/>
        </p:nvGrpSpPr>
        <p:grpSpPr>
          <a:xfrm>
            <a:off x="-12600" y="5784840"/>
            <a:ext cx="3414600" cy="1092240"/>
            <a:chOff x="-12600" y="5784840"/>
            <a:chExt cx="3414600" cy="1092240"/>
          </a:xfrm>
        </p:grpSpPr>
        <p:pic>
          <p:nvPicPr>
            <p:cNvPr id="324" name="Triunghi drept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Conector drept 18" descr=""/>
          <p:cNvPicPr/>
          <p:nvPr/>
        </p:nvPicPr>
        <p:blipFill>
          <a:blip r:embed="rId4"/>
          <a:stretch/>
        </p:blipFill>
        <p:spPr>
          <a:xfrm>
            <a:off x="-19080" y="5772240"/>
            <a:ext cx="3421080" cy="1109520"/>
          </a:xfrm>
          <a:prstGeom prst="rect">
            <a:avLst/>
          </a:prstGeom>
          <a:ln w="0">
            <a:noFill/>
          </a:ln>
        </p:spPr>
      </p:pic>
      <p:sp>
        <p:nvSpPr>
          <p:cNvPr id="327"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3073-8309-42D2-BC2F-D05E244908C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cacicovschi\Desktop\Junior-bike-DHS-Climber-2642.jpg"/>
          <p:cNvPicPr/>
          <p:nvPr/>
        </p:nvPicPr>
        <p:blipFill>
          <a:blip r:embed="rId1"/>
          <a:stretch/>
        </p:blipFill>
        <p:spPr>
          <a:xfrm>
            <a:off x="0" y="0"/>
            <a:ext cx="9144000" cy="7391520"/>
          </a:xfrm>
          <a:prstGeom prst="rect">
            <a:avLst/>
          </a:prstGeom>
          <a:ln w="0">
            <a:noFill/>
          </a:ln>
        </p:spPr>
      </p:pic>
      <p:pic>
        <p:nvPicPr>
          <p:cNvPr id="371" name="Subtitlu 2" descr=""/>
          <p:cNvPicPr/>
          <p:nvPr/>
        </p:nvPicPr>
        <p:blipFill>
          <a:blip r:embed="rId2"/>
          <a:stretch/>
        </p:blipFill>
        <p:spPr>
          <a:xfrm>
            <a:off x="1238400" y="2219400"/>
            <a:ext cx="7107120" cy="5046480"/>
          </a:xfrm>
          <a:prstGeom prst="rect">
            <a:avLst/>
          </a:prstGeom>
          <a:ln w="0">
            <a:noFill/>
          </a:ln>
        </p:spPr>
      </p:pic>
      <p:pic>
        <p:nvPicPr>
          <p:cNvPr id="372" name="Dreptunghi 3" descr=""/>
          <p:cNvPicPr/>
          <p:nvPr/>
        </p:nvPicPr>
        <p:blipFill>
          <a:blip r:embed="rId3"/>
          <a:stretch/>
        </p:blipFill>
        <p:spPr>
          <a:xfrm>
            <a:off x="1785960" y="2176560"/>
            <a:ext cx="5321160" cy="11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51920"/>
            <a:ext cx="8229600" cy="6324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Le vélo est un moyen de déplacement économe en énergie, peu dangereux et occupant peu d'espace. Il a une faible empreinte écologique (s'il est utilisé). En milieu urbain, pour les déplacements courts, il est une bonne alternative à l'automobile. Pour les déplacement plus longs ou pour se rendre à son travail, toujours en milieu urbain, il constitue un excellent complément aux transports en commune car il démultiplie l'aire desservie.</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La pratique du vélo apporte des bienfaits en termes de </a:t>
            </a:r>
            <a:r>
              <a:rPr b="0" lang="en-US" sz="1900" spc="-1" strike="noStrike" u="sng">
                <a:solidFill>
                  <a:srgbClr val="000000"/>
                </a:solidFill>
                <a:uFillTx/>
                <a:latin typeface="Lucida Sans Unicode"/>
              </a:rPr>
              <a:t>santé publique</a:t>
            </a:r>
            <a:r>
              <a:rPr b="0" lang="en-US" sz="1900" spc="-1" strike="noStrike">
                <a:solidFill>
                  <a:srgbClr val="000000"/>
                </a:solidFill>
                <a:latin typeface="Lucida Sans Unicode"/>
              </a:rPr>
              <a:t>, parce qu'il s'agit d'un exercice physique d'intensité moyenne : c'est précisément ce qu'il faut pour réduire les risques de </a:t>
            </a:r>
            <a:r>
              <a:rPr b="0" lang="en-US" sz="1900" spc="-1" strike="noStrike" u="sng">
                <a:solidFill>
                  <a:srgbClr val="000000"/>
                </a:solidFill>
                <a:uFillTx/>
                <a:latin typeface="Lucida Sans Unicode"/>
              </a:rPr>
              <a:t>maladies cardiovasculaires</a:t>
            </a:r>
            <a:r>
              <a:rPr b="0" lang="en-US" sz="1900" spc="-1" strike="noStrike">
                <a:solidFill>
                  <a:srgbClr val="000000"/>
                </a:solidFill>
                <a:latin typeface="Lucida Sans Unicode"/>
              </a:rPr>
              <a:t>. La pratique quotidienne du vélo est également recommandée par l'OMS ou la Commission européenne dans la lutte contre l'obésité. Aux Pays-Bas, une étude commandée par le ministère néerlandais des Transport montre que dans ce pays un travailleur sur trois va régulièrement au travail à vélo. Ceux qui utilisent un vélo tous les jours ouvrés sont statistiquement moins souvent malades et donc plus rentables pour leurs employeurs. Si l'on considérait que les deux autres tiers rassemblaient des personnes en moins bonne santé, celles-ci se porteraient mieux en pratiquant le vélo. Le ministre a suite à cette étude prévu 70 millions d’euros en 2009 pour aménager des pistes cyclables facilitant les trajets domicile travail et pour des mesures d’accompagnement des cyclistes (augmentation des parcs à vélos sécurisés dans les gar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51920"/>
            <a:ext cx="8229600" cy="6324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l existe aussi des risques liés à l’utilisation du vélo, tels que les accidents de trafic ou l’exposition aux polluants atmosphériques. Bien sur il y a une amélioration de la qualité de l’air, mais un risque accru d’exposition aux polluants atmosphériques lors du déplacement à vélo. Le cycliste n'est pas toujours moins exposé aux polluants de l'air que les autres usagers de la route. Même sur une route circulante, les concentrations de gaz et de particules peuvent être inférieures aux concentrations dans les voitures parce que le cycliste roule sur le côté de la chaussée et parce que la prise d'air des véhicules est généralement plus proche des pots d'échappement que ne l'est le nez du cycliste – où les taux de pollution sont plus faibles. Sa position surélevée lui permet d'échapper à certains polluants qui sont plus lourds que l'air. Néanmoins la plupart des études montrent que les différences en termes de concentrations de particules dépendent très fort de l’endroit où les mesures sont prises. Si on prend en compte l’aspect respiration dû à l’effort physique que fournit le cycliste lors de son déplacement, il y a de très fortes différences vélo-voiture en termes de quantités de pollution inhalées. Le cycliste inhale un volume d’air 4,3 fois supérieur à celui inhalé par l’automobiliste, ce qui augmente significativement l’exposition du cycliste aux émissions de polluants générées par le trafic et cela peut provoquer des effets (apparemment peu importants) sur sa santé. Sans compter que les cyclistes peuvent profiter de leur flexibilité pour explorer des parcours qui évitent les grands axes de circulatio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8:21:30Z</dcterms:created>
  <dc:creator>cacicovschi</dc:creator>
  <dc:description/>
  <dc:language>en-US</dc:language>
  <cp:lastModifiedBy>cacicovschi</cp:lastModifiedBy>
  <dcterms:modified xsi:type="dcterms:W3CDTF">2013-06-04T08:31:25Z</dcterms:modified>
  <cp:revision>1</cp:revision>
  <dc:subject/>
  <dc:title>Diapozitivul 1</dc:title>
</cp:coreProperties>
</file>